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352-D414-4181-935F-A0B166F8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778-CE2C-4222-8997-56A5197B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BD7-B5A5-45E5-A48D-88CC9BDE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54A-006C-4BE1-A73B-AF325F8A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4C60-5267-4BC2-BEEF-5B73E637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80DC-A1DD-4743-A510-B35ADD27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1D54-C47C-427B-9976-205404E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B397-E47C-49D9-94C7-4ED94FB0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E11E-25FE-4833-8DCD-F8B5DFE2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8DEC-987E-48A7-9D01-4235C63A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A517-86AE-4191-A499-4909AC7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C28-4F1D-4ABF-9AF6-66236EE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42C1-8229-4467-AC76-84B1F9AB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B1A7-0C31-4AD4-BC10-172DD749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F866-7729-4B03-A9DF-B9609B8C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E4D-C672-46BE-8426-2FA5CAF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A795-6F5F-4388-A870-2D37DB1C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1B0A-656A-4807-8C9A-C4A31D2F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47AF-9D4C-463E-993D-620A6EDE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6C33-7F45-4726-921E-CCB7BAFD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5578-CE9A-4863-BE2E-D1DBB135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D6FCB-03A7-4F08-B314-46078D12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EE1-FD79-43D2-B795-2CB40ADD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6F93-4885-441D-B332-0ECB190F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C2CF-57A9-40CA-ABA4-0ED3985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EEB3-5850-4A56-A8C4-50BA544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E071-FFF8-4094-B577-4606073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29C2-FB97-4255-89D7-D40990F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6E803-5445-4E2F-8061-E1A0C54B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A24C-85F0-4E03-9B29-327CB200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E3EF-A8BE-4557-8743-1800CEE2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732C-3049-4B21-95DA-DA83432B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669C-35C5-45D9-A6B9-C2FEB2DE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C00-0EE5-41E2-9B1B-EA0C3EF2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44B7-5722-4EB5-937A-B25E2736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4D919-64D3-4037-8679-7E68D349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397A-80CF-4F7A-8E13-BF0431C5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F3B7-43C7-4F08-9200-75295708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D94D-5CDF-4BE1-A608-337DDB91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B2A0-D4C5-441D-A23B-11ACBD95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D80ED-E178-4831-9B6D-C8985439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1DBD-ECCB-4700-A7A5-22732287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B6135-8013-4870-A9E8-BEB14831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533-F1F3-4379-8995-14D66DD3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E12-2BD1-4BAD-9640-BF1B7A24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C16-EACD-4A4B-961E-5CBA37CD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A26-AAA9-41E0-BA2F-1C75AEC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210-7FEC-4644-8180-A5E3205F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A0D7-A943-4EB8-A68C-7420B23E2C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37AF-83F4-470E-BBAA-16558B941C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1E8B-1D5E-4402-B1AE-48769CF77A9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789-43BE-47FB-9D2A-5605078074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3048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eferenc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if you need to fill spa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vailable Upon Requ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 references &amp; contact information typed on separate pap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cover letter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ersonal communication to a prospective employ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raws attention to qualificatio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emonstrates written communication skill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What to Include in a Cover Letter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aragraph 1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Job you are interested 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re you learned about the jo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aragraph 2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ate why you are qualified for posi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fer to experience/skills on resum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aragraph 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vide contact inform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ank person for considering yo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hat is a resume?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summary of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kill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bilitie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ccomplishment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quick advertisement of who you are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"snapshot" of you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 resume should alway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 truthful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 neat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 proofread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 resume should N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ave long sentenc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the word “I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ave pictures or graphic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 longer than 1 pag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ave typos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Heading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ddr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hone #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rofessional Emai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te the job type or indus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One Phras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xample:  To obtain a part time position in the food service industry within the New Haven area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ill Regional Career High Schoo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ew Haven, C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nticipated Graduation Date June 20xx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centration in Business/Health Scienc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st Honors/AP courses and GPA if over 3.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ork/Volunteer History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osition Titl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ame of Organiz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cation and Dat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pecific responsibiliti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What to Include in a Resum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xtracurricular Activities/Honor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pecific Name and Dat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eadership Rol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23:35:59Z</dcterms:created>
  <dc:creator>lb</dc:creator>
  <dc:description/>
  <dc:language>en-US</dc:language>
  <cp:lastModifiedBy>Phil Schneider</cp:lastModifiedBy>
  <dcterms:modified xsi:type="dcterms:W3CDTF">2015-11-29T23:20:05Z</dcterms:modified>
  <cp:revision>11</cp:revision>
  <dc:subject/>
  <dc:title>Resumés and Cover Letters</dc:title>
</cp:coreProperties>
</file>